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732588" cy="9864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732000" cy="986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360"/>
            <a:ext cx="29163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12760" y="-360"/>
            <a:ext cx="291636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899640" y="739440"/>
            <a:ext cx="4930920" cy="369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73200" y="4684680"/>
            <a:ext cx="5384880" cy="443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9367560"/>
            <a:ext cx="29163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12760" y="9367560"/>
            <a:ext cx="29163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EF91-00D6-43FC-B1B6-E3D8B4282F7D}"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00000" y="739800"/>
            <a:ext cx="4930920" cy="3699000"/>
          </a:xfrm>
          <a:prstGeom prst="rect">
            <a:avLst/>
          </a:prstGeom>
          <a:ln w="0">
            <a:noFill/>
          </a:ln>
        </p:spPr>
      </p:sp>
      <p:sp>
        <p:nvSpPr>
          <p:cNvPr id="659"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60" name="Slide Number Placeholder 3"/>
          <p:cNvSpPr/>
          <p:nvPr/>
        </p:nvSpPr>
        <p:spPr>
          <a:xfrm>
            <a:off x="3813120" y="9367920"/>
            <a:ext cx="29163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7B44-E79A-4406-B2E9-B8A523D9D9EE}" type="slidenum">
              <a:rPr b="0" lang="en-AU"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00000" y="739800"/>
            <a:ext cx="4930920" cy="3699000"/>
          </a:xfrm>
          <a:prstGeom prst="rect">
            <a:avLst/>
          </a:prstGeom>
          <a:ln w="0">
            <a:noFill/>
          </a:ln>
        </p:spPr>
      </p:sp>
      <p:sp>
        <p:nvSpPr>
          <p:cNvPr id="662"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63" name="Slide Number Placeholder 3"/>
          <p:cNvSpPr/>
          <p:nvPr/>
        </p:nvSpPr>
        <p:spPr>
          <a:xfrm>
            <a:off x="3813120" y="9367920"/>
            <a:ext cx="29163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AF0B-DEF9-45E6-97DB-9C7996A4CE39}" type="slidenum">
              <a:rPr b="0" lang="en-AU"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195A5-2B00-402B-990B-9F49F86E8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6E29C-7AE8-434C-ABAB-EB27176B0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CA64624-580B-4DA7-8727-A0D6DD3F42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D1D8FC8-8AFC-4DD9-B9D5-7F3329A4718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6B558A1-5BC1-40E8-9D62-2671D73DA7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DA0309A-B7B3-4245-850B-964A1A03EA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425573-EBFE-4181-A6CF-73FE43F307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5A20C0E-5C1B-48A1-A6B6-4B64BD2952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018D0D5-5070-452B-957C-E710F80FE93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6B3A1D2-9A67-40AD-9D54-56A42BE2B0C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811F119-4BB5-4155-9417-FF5C8EE6388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75C00BA-C6F6-483F-9006-81B05D4439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C63A-5193-47FB-A793-D1FDC5FD4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E40FE25-DEFF-4F12-B7DB-EB714EA961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9DFB690-10FB-435A-A86C-95513E49B3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C32D16C-4D33-481D-9A1C-DB239AC068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AA11C7C-D443-4CCD-B29D-ED0BAA17F4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CB92C9B-6B03-43A2-BDFA-C7671E985D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F6DDFC1-3F18-44BE-BBE5-EEBC5D0F07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2373AA3-E540-4CB9-B04C-1EE7C14EC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626F2A5-C810-44D3-8FFE-982C7D0F5A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F8ACAE8-FC73-4046-AE93-E98DB2CFA7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326525C-3261-447F-8506-71D82C00C7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BA84A-55CD-45C5-BA71-D595E60D9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C186387-FDFF-40D7-8609-4F07C0EF81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5B4892-37AA-4352-9717-70C2A659A8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90332B-86D8-4BD2-B962-C6233669EC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F1E865-DF55-48EB-A0DF-555B71D3C5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64608A-B9FB-4757-8B74-00AC62E0E7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4D5CFA-A00A-4D0F-9259-243FD3FD5B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35A80F-95EF-48C1-AD29-C7FEFEC028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64BCF9-ACA9-4B90-9830-7B3F1AC7F7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EB7DE9-F919-4DFA-9B08-FA0C742674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D67324-B055-4C1F-BFCA-114DB21CE1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20022-DA01-4B93-A139-D99F57DD7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24682B-CECA-4CD9-B991-20C67E01F6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42697B-5EC5-4AF4-9D54-CDA883E80D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7A7B3F-9435-4F0D-9278-617116FFD0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5859B61-37D8-4CEF-B0EF-F5D867556F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9A21429-85E2-4BF9-B595-4A51558FB3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875FB79-B061-445D-BFBE-470F38263A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FA24DA8-1C89-4B09-9442-2E6B57C7DD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5D53117-336E-43D3-BF34-8BDDAFBF50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C35FB79-F0D9-4544-97B8-0B2539588A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AAA136-6A9D-4936-AE7D-DC34FABF4D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FFD7A-765C-4F4B-A299-CCC5EE28C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A7593AE-A60D-46C4-8C94-C224FE7BD3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784141-A7BB-49DD-80C8-4F46BA69FA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80D33D0-7536-45B2-8AFA-8687809A7D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37F7CD3-DED6-47CD-8566-330AED13C2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CF863E9-A1B8-4032-91F0-03FBDA8C66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E715A-F353-4F12-AFE8-258612C67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D60F1-E975-4D50-B3ED-A58A75FCB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30DA7-4B8F-4A9B-812C-DCAB19CEC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42831-F61D-4C2D-A1A5-B6ED3FCCA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A0106-2512-4E0E-A214-C451A58B2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271F-9500-440E-817A-D30B25F84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4F82E-B4CD-4B76-BE27-F1BF0C6DC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E7C61-C97A-4336-BFF6-DF4EFD131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F8A96-ECFA-4406-922A-954CB51DC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BBDCB-5DF2-4214-BF53-5DCFC43BF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3D9D6-EDC6-41A2-B677-98461A7CB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4AC754-1F8A-4291-84F9-F870FD33B9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9A04A-E443-469E-94F3-6806307B2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DEF3E-C9EE-4255-BF65-8CF3ACEE6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BEC06-8230-49DB-A664-ED7847B56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27B33-90B0-4D15-9F40-89B4D8661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7581D-8B0A-474C-BFF6-DBC6F9CA3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D9B3F-87DE-4E7D-BA64-835AC11A4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64521-B389-47FB-83B7-3D8A6753D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267E0-EBB5-4594-ABB7-4C83B09B7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EAD01-E615-4ABD-9C4D-4F6F14A6C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ABCD5-5020-4BBF-8F84-0C4346D35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41C56-AC2E-487F-A4FD-001776C5EA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B2F586-39B7-4BC1-B513-07BCFA7865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E416619-7C5F-4A4F-B6F4-CD5871BBF1C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5FC425-ACF2-4C0F-B6FA-A6DEB0A669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652DA55-C56A-4DB0-AF2A-899710CCCC7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FB55D-6CCF-45BC-AB1B-E7357E728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E39CBF6-FA83-4E94-9587-8920CFCAB9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0F15725-D6C2-48E1-994D-E622ED5DE9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A4AFDE4-D309-47BE-BECB-EA781A35661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B28289B-A92A-4A47-B1BB-CEE59013B4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CAB11F-6FC6-4F8A-B994-33C20981BC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D96246-1515-41AF-8826-A7D1D9E428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16C0440-6B85-4DC0-8F83-9C76EA5F14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009FE4C-D185-4DB8-8E7A-DE9310B4E6C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E3B7A85-6129-480A-B204-9FF4C6862C3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35BEB1-D9FF-4E7E-A1EE-9EA39DB048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AFBD3-50DD-4FC6-9C0B-5FCEBCF2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9AA006-F77F-469C-B5AE-8E62AA55F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7D6DB-4D40-4638-A862-715CDC04A4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787F3C-DBD4-42AF-AB15-8DA4B26A7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9A75DF-90D6-4DCE-B755-17E883364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8BCE31-7CAB-44D2-8640-A020885C27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96B1A-16BD-4E1C-B34D-B01E9AC28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D13B3-5C69-48A1-A9ED-FCE502F0C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33609-2A65-417F-94DF-73E121D8D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2B1C3-95F7-49A5-AC9B-900807B0B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69794A-54D3-4E87-B773-DC8CBA062F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CDA61-14B0-4F36-9CD0-2417D4CC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02580A-05E1-43DA-9653-B85E5BBF0F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D68EA5-233A-4748-B060-82F3308EFE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5D8E21-3075-4FF9-8A57-C2B3265B0F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68CA6-0ED8-4374-987B-0157CFEE7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38F04-B4DB-40DC-B33E-4BF42A291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1C8B85-CA36-4FF6-9443-0495F2A3A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E6D54-EA85-452B-9905-13D22CBDC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90956-48CA-49FE-A731-93B14ACE8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E2AD2-F0B4-4958-95A9-6B2CEA5D89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6DD4F9-43FA-4E2C-AC67-342C26B08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DFBB-9D41-4907-A225-C82B3744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F37E20-C0B4-4D72-A63F-6579475058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805026-B160-49C0-BA0F-4D1FCC4CF1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E4DED-262A-4715-BF4D-DC521F84C0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B554CE-D54E-4266-8D71-F3F48E12CF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5B3A8-7E79-45F2-A475-87C9158F8A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E04F4D-6598-43FD-9D7D-6FB457A7D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CD4D78-200E-4303-AECC-325022D6F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A871E5-12AB-46A3-9698-50EB71188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2A961-B49D-49D1-91A6-44E2A510C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1C68E-A929-4EBD-B3E7-E74F166064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77D8-FEE4-4482-A5D3-554FAB782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D5409-A4B4-4BA0-BE25-86FEFF39F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7E60F-0179-433E-B0BF-242D03AD3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CF1EFB-5E88-44A1-A592-009531389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C9E4D9-A66A-4123-8641-48333A867E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B3D41D-F773-45AF-98B9-89EE042338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D10CD0-FF9B-4784-A371-E659899251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A72EFB-1279-4841-AA58-368FE52F4F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70251-5A41-4D6C-B5E8-386AC87DE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2DC522-D002-4F95-92BC-870F7DFB5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F4B6E-40CD-4D24-BC95-CB411C2E32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AA4AA-7932-49A3-BB7D-EBD47D94A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DE842-46DD-4545-92D6-D39C83F966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1B4EC-AA09-47A0-A5CD-9EF74AC77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A6898-1C15-4D22-9DF7-DFEF24B90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38D7D-F63E-4829-82FF-E6C83679B3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555EF-34D9-442F-B779-E936189D2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5F2203-5D98-49C6-9B9C-03A670654A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938AE1-1F6A-47C8-B4E4-40566A2FDC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8F32A8A-6559-41F0-A367-BCBD5B6109B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57E9CB8-38D5-44F8-9B86-1A2D49EC4D7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C259C50-417F-4710-9B9A-2CF92F87553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50D8-DF49-4EF7-99A6-F7BD534107BB}"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C0F1-776B-4842-B1B8-FCBD5729FD39}"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473D-128C-4505-A4C3-92D39AC18A7D}"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C5EE-CC40-4922-A862-6D66FD7226BF}"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269F-3C9A-458E-8320-28FBE258578B}"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47EC-76B9-48DE-A242-767D980E92F9}"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64E6-875B-4FF2-A78E-2BF40C78C818}"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4EE5-059A-4823-9D75-476290069DBF}"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A8A1-1875-4188-A827-AF476EF47252}"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07CB-1BCF-404C-8BE1-158401D28D55}"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C4B2-B704-4E27-9700-4AF53305D324}"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FE33-3D2A-428B-8469-A9BE6B86ECB1}"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EE13-5EBC-4119-B664-9AC4BEEDBFA7}"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5599-73AD-4D84-AB74-06C58D391582}"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8982-503F-4CE2-8579-F837634E562B}"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057A-60B9-4A6C-9342-C37BE677AB92}"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970E-008E-4971-B870-924DB15B52CB}"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7DFC-695D-40A3-9000-25D3AA6A4913}"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AD7A-9F41-46A1-91E1-E9E3A2DE0A79}"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C413-3E31-44AA-BB4F-20F33AFAC6AC}"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AC26-6F46-4C99-A78F-2CEF6C2E62CD}"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31A7-0D12-41B9-AE87-FBB976F9A9D7}" type="slidenum">
              <a:rPr b="0" lang="en-A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32D8-5ED0-46F7-B4C7-3553C02A01F1}"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DEB6-B2A5-4FD6-8CCC-4A03EB5E8A05}"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aetech.co.uk/ttutor/download.html" TargetMode="Externa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www.atpl.net.au/itemdetail.aspx?piid=15320" TargetMode="External"/><Relationship Id="rId3" Type="http://schemas.openxmlformats.org/officeDocument/2006/relationships/hyperlink" Target="http://www.aspirelearningresources.com.au/BSB07-cert2Bworkbooks/vproduct-456/" TargetMode="External"/><Relationship Id="rId4" Type="http://schemas.openxmlformats.org/officeDocument/2006/relationships/hyperlink" Target="http://www.smallprint.com.au/pdfs/BSBSUS201A%20LG%20VC1%20Sample.pdf" TargetMode="External"/><Relationship Id="rId5" Type="http://schemas.openxmlformats.org/officeDocument/2006/relationships/hyperlink" Target="http://www.softwarepublications.com.au/ProductDetail.aspx?PID=1980&amp;CatID=1431" TargetMode="External"/><Relationship Id="rId6" Type="http://schemas.openxmlformats.org/officeDocument/2006/relationships/hyperlink" Target="http://www.epa.vic.gov.au/ecologicalfootprint/default.asp" TargetMode="External"/><Relationship Id="rId7" Type="http://schemas.openxmlformats.org/officeDocument/2006/relationships/hyperlink" Target="http://www.epa.vic.gov.au/ecologicalfootprint/calculators/default.asp" TargetMode="External"/><Relationship Id="rId8" Type="http://schemas.openxmlformats.org/officeDocument/2006/relationships/hyperlink" Target="http://www.environment.gov.au/" TargetMode="External"/><Relationship Id="rId9" Type="http://schemas.openxmlformats.org/officeDocument/2006/relationships/hyperlink" Target="http://www.environment.gov.au/settlements/government/purchasing/index.html" TargetMode="External"/><Relationship Id="rId10" Type="http://schemas.openxmlformats.org/officeDocument/2006/relationships/hyperlink" Target="http://www.environment.gov.au/settlements/publications/government/purchasing/pubs/office-equipment.pdf" TargetMode="External"/><Relationship Id="rId11" Type="http://schemas.openxmlformats.org/officeDocument/2006/relationships/hyperlink" Target="http://www.environment.gov.au/settlements/publications/government/purchasing/green-office-guide/" TargetMode="External"/><Relationship Id="rId12" Type="http://schemas.openxmlformats.org/officeDocument/2006/relationships/hyperlink" Target="http://www.thegreenworkplace.com/?gclid=CM_kyNrhhJcCFRNOagod_CBjXw" TargetMode="External"/><Relationship Id="rId13" Type="http://schemas.openxmlformats.org/officeDocument/2006/relationships/hyperlink" Target="http://www.abc.net.au/greenatwork/GreenYourWork/" TargetMode="External"/><Relationship Id="rId14" Type="http://schemas.openxmlformats.org/officeDocument/2006/relationships/hyperlink" Target="http://www2.epa.nsw.gov.au/resources/2005036_ed_conservationecooffice_project_cs.pdf" TargetMode="External"/><Relationship Id="rId15" Type="http://schemas.openxmlformats.org/officeDocument/2006/relationships/hyperlink" Target="http://www.deus.nsw.gov.au/index.asp" TargetMode="External"/><Relationship Id="rId16" Type="http://schemas.openxmlformats.org/officeDocument/2006/relationships/image" Target="../media/image2.jpe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monash.edu/green/you/green-office/" TargetMode="External"/><Relationship Id="rId3" Type="http://schemas.openxmlformats.org/officeDocument/2006/relationships/hyperlink" Target="http://www.latrobe.edu.au/envirosmart/green.html" TargetMode="External"/><Relationship Id="rId4" Type="http://schemas.openxmlformats.org/officeDocument/2006/relationships/hyperlink" Target="http://www.ecu.edu.au/fas/EcoECU/greenoffice.php" TargetMode="External"/><Relationship Id="rId5" Type="http://schemas.openxmlformats.org/officeDocument/2006/relationships/hyperlink" Target="http://www.fm.uwa.edu.au/about/sustainability/green_office" TargetMode="External"/><Relationship Id="rId6" Type="http://schemas.openxmlformats.org/officeDocument/2006/relationships/hyperlink" Target="http://www.pf.uq.edu.au/Ems/GrnOffPrgrm.html" TargetMode="External"/><Relationship Id="rId7" Type="http://schemas.openxmlformats.org/officeDocument/2006/relationships/hyperlink" Target="http://www.acfonline.org.au/articles/news.asp?news_id=515&amp;c=121413" TargetMode="External"/><Relationship Id="rId8" Type="http://schemas.openxmlformats.org/officeDocument/2006/relationships/hyperlink" Target="http://www.carbonsolutionsforum.com.au/" TargetMode="External"/><Relationship Id="rId9" Type="http://schemas.openxmlformats.org/officeDocument/2006/relationships/hyperlink" Target="http://change2.com.au/" TargetMode="External"/><Relationship Id="rId10" Type="http://schemas.openxmlformats.org/officeDocument/2006/relationships/image" Target="../media/image2.jpeg"/><Relationship Id="rId1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49.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d16349"/>
                </a:solidFill>
                <a:latin typeface="Georgia"/>
              </a:rPr>
              <a:t>Business Services Teacher Network</a:t>
            </a:r>
            <a:endParaRPr b="0" lang="en-US" sz="4200" spc="-1" strike="noStrike">
              <a:solidFill>
                <a:srgbClr val="7b9899"/>
              </a:solidFill>
              <a:latin typeface="Georgia"/>
            </a:endParaRPr>
          </a:p>
        </p:txBody>
      </p:sp>
      <p:pic>
        <p:nvPicPr>
          <p:cNvPr id="614" name="Picture 7" descr="j0283248.gif"/>
          <p:cNvPicPr/>
          <p:nvPr/>
        </p:nvPicPr>
        <p:blipFill>
          <a:blip r:embed="rId1"/>
          <a:stretch/>
        </p:blipFill>
        <p:spPr>
          <a:xfrm>
            <a:off x="285840" y="5214960"/>
            <a:ext cx="1995480" cy="1387440"/>
          </a:xfrm>
          <a:prstGeom prst="rect">
            <a:avLst/>
          </a:prstGeom>
          <a:ln w="0">
            <a:noFill/>
          </a:ln>
        </p:spPr>
      </p:pic>
      <p:pic>
        <p:nvPicPr>
          <p:cNvPr id="615" name="Picture 3" descr="BLACK-crest.JPG"/>
          <p:cNvPicPr/>
          <p:nvPr/>
        </p:nvPicPr>
        <p:blipFill>
          <a:blip r:embed="rId2"/>
          <a:stretch/>
        </p:blipFill>
        <p:spPr>
          <a:xfrm>
            <a:off x="7215120" y="6000840"/>
            <a:ext cx="1206720" cy="393480"/>
          </a:xfrm>
          <a:prstGeom prst="rect">
            <a:avLst/>
          </a:prstGeom>
          <a:ln w="0">
            <a:noFill/>
          </a:ln>
        </p:spPr>
      </p:pic>
      <p:sp>
        <p:nvSpPr>
          <p:cNvPr id="616" name="TextBox 6"/>
          <p:cNvSpPr/>
          <p:nvPr/>
        </p:nvSpPr>
        <p:spPr>
          <a:xfrm>
            <a:off x="2286000" y="4000680"/>
            <a:ext cx="514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Thursday 29</a:t>
            </a:r>
            <a:r>
              <a:rPr b="0" lang="en-AU" sz="1800" spc="-1" strike="noStrike" baseline="30000">
                <a:solidFill>
                  <a:srgbClr val="000000"/>
                </a:solidFill>
                <a:latin typeface="Georgia"/>
              </a:rPr>
              <a:t>th</a:t>
            </a:r>
            <a:r>
              <a:rPr b="0" lang="en-AU" sz="1800" spc="-1" strike="noStrike">
                <a:solidFill>
                  <a:srgbClr val="000000"/>
                </a:solidFill>
                <a:latin typeface="Georgia"/>
              </a:rPr>
              <a:t> October 2009</a:t>
            </a:r>
            <a:endParaRPr b="0" lang="en-US" sz="1800" spc="-1" strike="noStrike">
              <a:solidFill>
                <a:srgbClr val="000000"/>
              </a:solidFill>
              <a:latin typeface="Georgia"/>
            </a:endParaRPr>
          </a:p>
        </p:txBody>
      </p:sp>
      <p:sp>
        <p:nvSpPr>
          <p:cNvPr id="617" name="Footer Placeholder 9"/>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a:t>
            </a:r>
            <a:r>
              <a:rPr b="0" lang="en-AU" sz="1200" spc="-1" strike="noStrike">
                <a:solidFill>
                  <a:srgbClr val="ffffff"/>
                </a:solidFill>
                <a:latin typeface="Georgia"/>
              </a:rPr>
              <a:t>education</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Teacher Qualification Update</a:t>
            </a: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Georgia"/>
              </a:rPr>
              <a:t>BSBITU102A Develop keyboard skill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This level 1 unit requires teachers to be able to touch type with the correct finger placement. In the new teacher program, OTEN has provided a touch typing program on CD, which is copyright free for educational purposes. Any existing teachers needing to upskill or practice their keyboarding can download a copy of the following software, or any other touch typing software (many of which are available, either free or for little cost). </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Georgia"/>
              </a:rPr>
              <a:t>	</a:t>
            </a:r>
            <a:r>
              <a:rPr b="0" i="1" lang="en-AU" sz="1600" spc="-1" strike="noStrike">
                <a:solidFill>
                  <a:srgbClr val="000000"/>
                </a:solidFill>
                <a:latin typeface="Georgia"/>
              </a:rPr>
              <a:t>Analytical Eye Typing Tutor,</a:t>
            </a:r>
            <a:r>
              <a:rPr b="0" lang="en-AU" sz="1600" spc="-1" strike="noStrike">
                <a:solidFill>
                  <a:srgbClr val="000000"/>
                </a:solidFill>
                <a:latin typeface="Georgia"/>
              </a:rPr>
              <a:t> </a:t>
            </a:r>
            <a:r>
              <a:rPr b="0" lang="en-AU" sz="1600" spc="-1" strike="noStrike" u="sng">
                <a:solidFill>
                  <a:srgbClr val="00a3d6"/>
                </a:solidFill>
                <a:uFillTx/>
                <a:latin typeface="Georgia"/>
                <a:hlinkClick r:id="rId1"/>
              </a:rPr>
              <a:t>http://www.aetech.co.uk/ttutor/download.html</a:t>
            </a:r>
            <a:r>
              <a:rPr b="0" lang="en-AU" sz="1600" spc="-1" strike="noStrike">
                <a:solidFill>
                  <a:srgbClr val="000000"/>
                </a:solidFill>
                <a:latin typeface="Georgia"/>
              </a:rPr>
              <a:t>  </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Georgia"/>
              </a:rPr>
              <a:t>BSBITU203A Communicate electronicall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Existing teachers are deemed to be competent in all areas of skill except for social networking. New teachers will be required to contribute to a Wiki which OTEN will set up as part of the training. It is suggested that RTOs encourage Business Services teachers to interact through wikis, blogs or discussion lists to maintain and demonstrate skills in social networking.</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Georgia"/>
              </a:rPr>
              <a:t>BSBU201A Participate in environmentally sustainable work practice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Teachers did not cover this in their pre-service training, and would need to access resources to cover the gap. Schools are likely to be covering this material in other subjects and teachers will need to transfer their knowledge to the office environment.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Resources available to support this unit – see handou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pic>
        <p:nvPicPr>
          <p:cNvPr id="620" name="Picture 7" descr="j0283248.gif"/>
          <p:cNvPicPr/>
          <p:nvPr/>
        </p:nvPicPr>
        <p:blipFill>
          <a:blip r:embed="rId2"/>
          <a:stretch/>
        </p:blipFill>
        <p:spPr>
          <a:xfrm>
            <a:off x="285840" y="5610240"/>
            <a:ext cx="1428840" cy="992160"/>
          </a:xfrm>
          <a:prstGeom prst="rect">
            <a:avLst/>
          </a:prstGeom>
          <a:ln w="0">
            <a:noFill/>
          </a:ln>
        </p:spPr>
      </p:pic>
      <p:pic>
        <p:nvPicPr>
          <p:cNvPr id="621" name="Picture 6" descr="BLACK-crest.JPG"/>
          <p:cNvPicPr/>
          <p:nvPr/>
        </p:nvPicPr>
        <p:blipFill>
          <a:blip r:embed="rId3"/>
          <a:stretch/>
        </p:blipFill>
        <p:spPr>
          <a:xfrm>
            <a:off x="7215120" y="6000840"/>
            <a:ext cx="1206720" cy="393480"/>
          </a:xfrm>
          <a:prstGeom prst="rect">
            <a:avLst/>
          </a:prstGeom>
          <a:ln w="0">
            <a:noFill/>
          </a:ln>
        </p:spPr>
      </p:pic>
      <p:sp>
        <p:nvSpPr>
          <p:cNvPr id="622" name="Footer Placeholder 8"/>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7" descr="j0283248.gif"/>
          <p:cNvPicPr/>
          <p:nvPr/>
        </p:nvPicPr>
        <p:blipFill>
          <a:blip r:embed="rId1"/>
          <a:stretch/>
        </p:blipFill>
        <p:spPr>
          <a:xfrm>
            <a:off x="214200" y="5786280"/>
            <a:ext cx="1000080" cy="695520"/>
          </a:xfrm>
          <a:prstGeom prst="rect">
            <a:avLst/>
          </a:prstGeom>
          <a:ln w="0">
            <a:noFill/>
          </a:ln>
        </p:spPr>
      </p:pic>
      <p:sp>
        <p:nvSpPr>
          <p:cNvPr id="624" name="PlaceHolder 1"/>
          <p:cNvSpPr>
            <a:spLocks noGrp="1"/>
          </p:cNvSpPr>
          <p:nvPr>
            <p:ph type="title"/>
          </p:nvPr>
        </p:nvSpPr>
        <p:spPr>
          <a:xfrm>
            <a:off x="285840" y="35712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7b9899"/>
                </a:solidFill>
                <a:latin typeface="Georgia"/>
              </a:rPr>
              <a:t>BSBU201A; Participate in environmentally sustainable work practices</a:t>
            </a:r>
            <a:endParaRPr b="0" lang="en-US" sz="3000" spc="-1" strike="noStrike">
              <a:solidFill>
                <a:srgbClr val="7b9899"/>
              </a:solidFill>
              <a:latin typeface="Georgia"/>
            </a:endParaRPr>
          </a:p>
        </p:txBody>
      </p:sp>
      <p:sp>
        <p:nvSpPr>
          <p:cNvPr id="62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26" name=""/>
          <p:cNvSpPr txBox="1"/>
          <p:nvPr/>
        </p:nvSpPr>
        <p:spPr>
          <a:xfrm>
            <a:off x="214200" y="1285560"/>
            <a:ext cx="8591760" cy="5000760"/>
          </a:xfrm>
          <a:prstGeom prst="rect">
            <a:avLst/>
          </a:prstGeom>
          <a:noFill/>
          <a:ln w="0">
            <a:noFill/>
          </a:ln>
        </p:spPr>
        <p:txBody>
          <a:bodyPr lIns="90000" rIns="90000" tIns="46800" bIns="46800" anchor="t">
            <a:normAutofit/>
          </a:bodyPr>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Georgia"/>
              </a:rPr>
              <a:t>Texts</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TVET AUSTRALIA</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2"/>
              </a:rPr>
              <a:t>http://www.atpl.net.au/itemdetail.aspx?piid=15320</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ASPIRE LEARNING RESOURCE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3"/>
              </a:rPr>
              <a:t>http://www.aspirelearningresources.com.au/BSB07-cert2Bworkbooks/vproduct-456/ </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SMALL PRINT</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4"/>
              </a:rPr>
              <a:t>http://www.smallprint.com.au/pdfs/BSBSUS201A%20LG%20VC1%20Sample.pdf </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SOFTWARE PUBLICATION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5"/>
              </a:rPr>
              <a:t>http://www.softwarepublications.com.au/ProductDetail.aspx?PID=1980&amp;CatID=1431</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Georgia"/>
              </a:rPr>
              <a:t>Online resources – useful websites</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PA VICTORIA website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6"/>
              </a:rPr>
              <a:t>http://www.epa.vic.gov.au/ecologicalfootprint/default.asp</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7"/>
              </a:rPr>
              <a:t>http://www.epa.vic.gov.au/ecologicalfootprint/calculators/default.asp</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Includes calculators for home, office, school and retail.  The Office Ecological Footprint Calculator is a questionnaire which allows you to estimate how much land it takes to run and maintain your office. </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DEPARTMENT OF THE ENVIRONMENT, WATER, HERITAGE AND ART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8"/>
              </a:rPr>
              <a:t>http://www.environment.gov.au/</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nvironmental purchasing:  voluntary tools for environmental purchasing:</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9"/>
              </a:rPr>
              <a:t>http://www.environment.gov.au/settlements/government/purchasing/index.html</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nvironmental Purchasing Checklist:  Miscellaneous office equipment</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0"/>
              </a:rPr>
              <a:t>http://www.environment.gov.au/settlements/publications/government/purchasing/pubs/office-equipment.pdf</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Green office guide</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1"/>
              </a:rPr>
              <a:t>http://www.environment.gov.au/settlements/publications/government/purchasing/green-office-guide/</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THE GREEN WORKPLACE</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2"/>
              </a:rPr>
              <a:t>http://www.thegreenworkplace.com/?gclid=CM_kyNrhhJcCFRNOagod_CBjXw</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ABC GREEN AT WORK</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3"/>
              </a:rPr>
              <a:t>http://www.abc.net.au/greenatwork/GreenYourWork/</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CO OFFICE PROJECT , NATURE CONSERVATION COUNCIL OF NSW</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4"/>
              </a:rPr>
              <a:t>http://www2.epa.nsw.gov.au/resources/2005036_ed_conservationecooffice_project_cs.pdf</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DEPARTMENT OF ENERGY, UTILITIES AND SUSTAINABILITY</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5"/>
              </a:rPr>
              <a:t>http://www.deus.nsw.gov.au/index.asp</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p:txBody>
      </p:sp>
      <p:pic>
        <p:nvPicPr>
          <p:cNvPr id="627" name="Picture 6" descr="BLACK-crest.JPG"/>
          <p:cNvPicPr/>
          <p:nvPr/>
        </p:nvPicPr>
        <p:blipFill>
          <a:blip r:embed="rId16"/>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7" descr="j0283248.gif"/>
          <p:cNvPicPr/>
          <p:nvPr/>
        </p:nvPicPr>
        <p:blipFill>
          <a:blip r:embed="rId1"/>
          <a:stretch/>
        </p:blipFill>
        <p:spPr>
          <a:xfrm>
            <a:off x="214200" y="5643720"/>
            <a:ext cx="1143000" cy="795240"/>
          </a:xfrm>
          <a:prstGeom prst="rect">
            <a:avLst/>
          </a:prstGeom>
          <a:ln w="0">
            <a:noFill/>
          </a:ln>
        </p:spPr>
      </p:pic>
      <p:sp>
        <p:nvSpPr>
          <p:cNvPr id="629" name="PlaceHolder 1"/>
          <p:cNvSpPr>
            <a:spLocks noGrp="1"/>
          </p:cNvSpPr>
          <p:nvPr>
            <p:ph type="title"/>
          </p:nvPr>
        </p:nvSpPr>
        <p:spPr>
          <a:xfrm>
            <a:off x="356760" y="35712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7b9899"/>
                </a:solidFill>
                <a:latin typeface="Georgia"/>
              </a:rPr>
              <a:t>BSBU201A; Participate in environmentally sustainable work practices.</a:t>
            </a:r>
            <a:endParaRPr b="0" lang="en-US" sz="3000" spc="-1" strike="noStrike">
              <a:solidFill>
                <a:srgbClr val="7b9899"/>
              </a:solidFill>
              <a:latin typeface="Georgia"/>
            </a:endParaRPr>
          </a:p>
        </p:txBody>
      </p:sp>
      <p:sp>
        <p:nvSpPr>
          <p:cNvPr id="63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31" name=""/>
          <p:cNvSpPr txBox="1"/>
          <p:nvPr/>
        </p:nvSpPr>
        <p:spPr>
          <a:xfrm>
            <a:off x="301320" y="1357200"/>
            <a:ext cx="8504280" cy="4741920"/>
          </a:xfrm>
          <a:prstGeom prst="rect">
            <a:avLst/>
          </a:prstGeom>
          <a:noFill/>
          <a:ln w="0">
            <a:noFill/>
          </a:ln>
        </p:spPr>
        <p:txBody>
          <a:bodyPr lIns="90000" rIns="90000" tIns="46800" bIns="46800"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Georgia"/>
              </a:rPr>
              <a:t>Sample organisations with green office programs</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MONASH UNIVERSITY</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Example of a green office program:</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2"/>
              </a:rPr>
              <a:t>http://monash.edu/green/you/green-office/</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LA TROBE UNIVERSITY</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3"/>
              </a:rPr>
              <a:t>http://www.latrobe.edu.au/envirosmart/green.html</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EDITH COWAN UNIVERSITY</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4"/>
              </a:rPr>
              <a:t>http://www.ecu.edu.au/fas/EcoECU/greenoffice.php</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UNIVERSITY OF WESTERN AUSTRALIA</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5"/>
              </a:rPr>
              <a:t>http://www.fm.uwa.edu.au/about/sustainability/green_office</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UNIVERSITY OF QUEENSLAND</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6"/>
              </a:rPr>
              <a:t>http://www.pf.uq.edu.au/Ems/GrnOffPrgrm.html</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AUSTRALIAN CONSERVATION FOUNDATION</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Information about the green office, and green hom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7"/>
              </a:rPr>
              <a:t>http://www.acfonline.org.au/articles/news.asp?news_id=515&amp;c=121413</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Georgia"/>
              </a:rPr>
              <a:t>CARBON SOLUTIONS FORUM</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a3d6"/>
                </a:solidFill>
                <a:uFillTx/>
                <a:latin typeface="Georgia"/>
                <a:hlinkClick r:id="rId8"/>
              </a:rPr>
              <a:t>www.carbonsolutionsforum.com.au</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CHANGE2</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Cultural change programme – and the Sustainable Office Challeng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9"/>
              </a:rPr>
              <a:t>http://change2.com.au/</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0000"/>
                </a:solidFill>
                <a:uFillTx/>
                <a:latin typeface="Georgia"/>
              </a:rPr>
              <a:t>http://www.change2.com.au/modules/sustainable_office_challenge/</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GOING SOLAR</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Melbourne company to assist organisations in becoming sustainabl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0000"/>
                </a:solidFill>
                <a:uFillTx/>
                <a:latin typeface="Georgia"/>
              </a:rPr>
              <a:t>http://www.goingsolar.com.au/php/div_environ.php</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NATIONAL CENTRE FOR SUSTAINABILITY</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0000"/>
                </a:solidFill>
                <a:uFillTx/>
                <a:latin typeface="Georgia"/>
              </a:rPr>
              <a:t>http://tool.ncsustainability.com.au/public_resources6.html</a:t>
            </a:r>
            <a:endParaRPr b="0" lang="en-US" sz="1100" spc="-1" strike="noStrike">
              <a:solidFill>
                <a:srgbClr val="000000"/>
              </a:solidFill>
              <a:latin typeface="Georgia"/>
            </a:endParaRPr>
          </a:p>
        </p:txBody>
      </p:sp>
      <p:pic>
        <p:nvPicPr>
          <p:cNvPr id="632" name="Picture 6" descr="BLACK-crest.JPG"/>
          <p:cNvPicPr/>
          <p:nvPr/>
        </p:nvPicPr>
        <p:blipFill>
          <a:blip r:embed="rId10"/>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7" descr="j0283248.gif"/>
          <p:cNvPicPr/>
          <p:nvPr/>
        </p:nvPicPr>
        <p:blipFill>
          <a:blip r:embed="rId1"/>
          <a:stretch/>
        </p:blipFill>
        <p:spPr>
          <a:xfrm>
            <a:off x="285840" y="5214960"/>
            <a:ext cx="1995480" cy="138744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WSR Business Services Teacher Network</a:t>
            </a:r>
            <a:endParaRPr b="0" lang="en-US" sz="3300" spc="-1" strike="noStrike">
              <a:solidFill>
                <a:srgbClr val="7b9899"/>
              </a:solidFill>
              <a:latin typeface="Georgia"/>
            </a:endParaRPr>
          </a:p>
        </p:txBody>
      </p:sp>
      <p:sp>
        <p:nvSpPr>
          <p:cNvPr id="635"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3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Why do you need to Network?</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Possible operational model for this Network.</a:t>
            </a:r>
            <a:endParaRPr b="0" lang="en-US" sz="27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You set the agenda</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Agenda’s include teacher professional development.</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Assigning of a coordinator.</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Time frames for having Network meetings?</a:t>
            </a:r>
            <a:endParaRPr b="0" lang="en-US" sz="2200" spc="-1" strike="noStrike">
              <a:solidFill>
                <a:srgbClr val="646b86"/>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Once a semester?</a:t>
            </a:r>
            <a:endParaRPr b="0" lang="en-US" sz="2000" spc="-1" strike="noStrike">
              <a:solidFill>
                <a:srgbClr val="000000"/>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½ day meetings?</a:t>
            </a:r>
            <a:endParaRPr b="0" lang="en-US" sz="2000" spc="-1" strike="noStrike">
              <a:solidFill>
                <a:srgbClr val="000000"/>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After school meetings? </a:t>
            </a:r>
            <a:endParaRPr b="0" lang="en-US" sz="20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How is Region going to assist in the facilitation of </a:t>
            </a:r>
            <a:r>
              <a:rPr b="0" lang="en-AU" sz="2700" spc="-1" strike="noStrike">
                <a:solidFill>
                  <a:srgbClr val="000000"/>
                </a:solidFill>
                <a:latin typeface="Georgia"/>
              </a:rPr>
              <a:t>	</a:t>
            </a:r>
            <a:r>
              <a:rPr b="0" lang="en-AU" sz="2700" spc="-1" strike="noStrike">
                <a:solidFill>
                  <a:srgbClr val="000000"/>
                </a:solidFill>
                <a:latin typeface="Georgia"/>
              </a:rPr>
              <a:t>	</a:t>
            </a:r>
            <a:r>
              <a:rPr b="0" lang="en-AU" sz="2700" spc="-1" strike="noStrike">
                <a:solidFill>
                  <a:srgbClr val="000000"/>
                </a:solidFill>
                <a:latin typeface="Georgia"/>
              </a:rPr>
              <a:t>	</a:t>
            </a:r>
            <a:r>
              <a:rPr b="0" lang="en-AU" sz="2700" spc="-1" strike="noStrike">
                <a:solidFill>
                  <a:srgbClr val="000000"/>
                </a:solidFill>
                <a:latin typeface="Georgia"/>
              </a:rPr>
              <a:t>this Network?</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7" name="Picture 6" descr="BLACK-crest.JPG"/>
          <p:cNvPicPr/>
          <p:nvPr/>
        </p:nvPicPr>
        <p:blipFill>
          <a:blip r:embed="rId2"/>
          <a:stretch/>
        </p:blipFill>
        <p:spPr>
          <a:xfrm>
            <a:off x="7215120" y="6000840"/>
            <a:ext cx="1206720" cy="393480"/>
          </a:xfrm>
          <a:prstGeom prst="rect">
            <a:avLst/>
          </a:prstGeom>
          <a:ln w="0">
            <a:noFill/>
          </a:ln>
        </p:spPr>
      </p:pic>
      <p:sp>
        <p:nvSpPr>
          <p:cNvPr id="638" name="Rectangular Callout 10"/>
          <p:cNvSpPr/>
          <p:nvPr/>
        </p:nvSpPr>
        <p:spPr>
          <a:xfrm>
            <a:off x="6357960" y="3143160"/>
            <a:ext cx="2286000" cy="1571760"/>
          </a:xfrm>
          <a:prstGeom prst="wedgeRectCallout">
            <a:avLst>
              <a:gd name="adj1" fmla="val -100365"/>
              <a:gd name="adj2" fmla="val 3943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9" name="TextBox 11"/>
          <p:cNvSpPr/>
          <p:nvPr/>
        </p:nvSpPr>
        <p:spPr>
          <a:xfrm>
            <a:off x="6429240" y="3214800"/>
            <a:ext cx="2071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2f2f2"/>
                </a:solidFill>
                <a:latin typeface="Georgia"/>
              </a:rPr>
              <a:t>Your turn- what do you think?</a:t>
            </a:r>
            <a:endParaRPr b="0" lang="en-US" sz="1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2f2f2"/>
                </a:solidFill>
                <a:latin typeface="Georgia"/>
              </a:rPr>
              <a:t>How  can we make this work best for You?</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638"/>
                                        </p:tgtEl>
                                        <p:attrNameLst>
                                          <p:attrName>style.visibility</p:attrName>
                                        </p:attrNameLst>
                                      </p:cBhvr>
                                      <p:to>
                                        <p:strVal val="visible"/>
                                      </p:to>
                                    </p:set>
                                    <p:anim calcmode="lin" valueType="num">
                                      <p:cBhvr additive="repl">
                                        <p:cTn id="7" dur="1000" fill="hold"/>
                                        <p:tgtEl>
                                          <p:spTgt spid="638"/>
                                        </p:tgtEl>
                                        <p:attrNameLst>
                                          <p:attrName>ppt_w</p:attrName>
                                        </p:attrNameLst>
                                      </p:cBhvr>
                                      <p:tavLst>
                                        <p:tav tm="0">
                                          <p:val>
                                            <p:strVal val="#ppt_w*0.70"/>
                                          </p:val>
                                        </p:tav>
                                        <p:tav tm="100000">
                                          <p:val>
                                            <p:strVal val="#ppt_w"/>
                                          </p:val>
                                        </p:tav>
                                      </p:tavLst>
                                    </p:anim>
                                    <p:anim calcmode="lin" valueType="num">
                                      <p:cBhvr additive="repl">
                                        <p:cTn id="8" dur="1000" fill="hold"/>
                                        <p:tgtEl>
                                          <p:spTgt spid="638"/>
                                        </p:tgtEl>
                                        <p:attrNameLst>
                                          <p:attrName>ppt_h</p:attrName>
                                        </p:attrNameLst>
                                      </p:cBhvr>
                                      <p:tavLst>
                                        <p:tav tm="0">
                                          <p:val>
                                            <p:strVal val="#ppt_h"/>
                                          </p:val>
                                        </p:tav>
                                        <p:tav tm="100000">
                                          <p:val>
                                            <p:strVal val="#ppt_h"/>
                                          </p:val>
                                        </p:tav>
                                      </p:tavLst>
                                    </p:anim>
                                    <p:animEffect filter="fade" transition="in">
                                      <p:cBhvr additive="repl">
                                        <p:cTn id="9" dur="1000"/>
                                        <p:tgtEl>
                                          <p:spTgt spid="638"/>
                                        </p:tgtEl>
                                      </p:cBhvr>
                                    </p:animEffect>
                                  </p:childTnLst>
                                </p:cTn>
                              </p:par>
                            </p:childTnLst>
                          </p:cTn>
                        </p:par>
                        <p:par>
                          <p:cTn id="10" fill="hold">
                            <p:stCondLst>
                              <p:cond delay="1000"/>
                            </p:stCondLst>
                            <p:childTnLst>
                              <p:par>
                                <p:cTn id="11" nodeType="afterEffect" fill="hold" presetClass="emph" presetID="8">
                                  <p:stCondLst>
                                    <p:cond delay="0"/>
                                  </p:stCondLst>
                                  <p:childTnLst>
                                    <p:animRot by="21600000">
                                      <p:cBhvr>
                                        <p:cTn id="12" dur="2000" fill="hold"/>
                                        <p:tgtEl>
                                          <p:spTgt spid="6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7" descr="j0283248.gif"/>
          <p:cNvPicPr/>
          <p:nvPr/>
        </p:nvPicPr>
        <p:blipFill>
          <a:blip r:embed="rId1"/>
          <a:stretch/>
        </p:blipFill>
        <p:spPr>
          <a:xfrm>
            <a:off x="285840" y="5214960"/>
            <a:ext cx="1995480" cy="1387440"/>
          </a:xfrm>
          <a:prstGeom prst="rect">
            <a:avLst/>
          </a:prstGeom>
          <a:ln w="0">
            <a:noFill/>
          </a:ln>
        </p:spPr>
      </p:pic>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7b9899"/>
                </a:solidFill>
                <a:latin typeface="Georgia"/>
              </a:rPr>
              <a:t>Review of the Learning and Assessment Strategy</a:t>
            </a:r>
            <a:endParaRPr b="0" lang="en-US" sz="3000" spc="-1" strike="noStrike">
              <a:solidFill>
                <a:srgbClr val="7b9899"/>
              </a:solidFill>
              <a:latin typeface="Georgia"/>
            </a:endParaRPr>
          </a:p>
        </p:txBody>
      </p:sp>
      <p:sp>
        <p:nvSpPr>
          <p:cNvPr id="642"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4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The LAS for the current cohort 2009/2010 is set however the LAS for the 2010/2011 can reflect changes to the Themes and grouping of competenc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In groups of 5 people discuss and evaluat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The grouping of competencies into Them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Timelines for Theme delive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1 member of each group to summarise the group discussion back to the whole group.</a:t>
            </a:r>
            <a:endParaRPr b="0" lang="en-US" sz="2700" spc="-1" strike="noStrike">
              <a:solidFill>
                <a:srgbClr val="000000"/>
              </a:solidFill>
              <a:latin typeface="Georgia"/>
            </a:endParaRPr>
          </a:p>
        </p:txBody>
      </p:sp>
      <p:pic>
        <p:nvPicPr>
          <p:cNvPr id="644" name="Picture 6" descr="BLACK-crest.JPG"/>
          <p:cNvPicPr/>
          <p:nvPr/>
        </p:nvPicPr>
        <p:blipFill>
          <a:blip r:embed="rId2"/>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7" descr="j0283248.gif"/>
          <p:cNvPicPr/>
          <p:nvPr/>
        </p:nvPicPr>
        <p:blipFill>
          <a:blip r:embed="rId1"/>
          <a:stretch/>
        </p:blipFill>
        <p:spPr>
          <a:xfrm>
            <a:off x="285840" y="5214960"/>
            <a:ext cx="1995480" cy="1387440"/>
          </a:xfrm>
          <a:prstGeom prst="rect">
            <a:avLst/>
          </a:prstGeom>
          <a:ln w="0">
            <a:noFill/>
          </a:ln>
        </p:spPr>
      </p:pic>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Validation of 2009 Assessment Packages</a:t>
            </a:r>
            <a:endParaRPr b="0" lang="en-US" sz="3300" spc="-1" strike="noStrike">
              <a:solidFill>
                <a:srgbClr val="7b9899"/>
              </a:solidFill>
              <a:latin typeface="Georgia"/>
            </a:endParaRPr>
          </a:p>
        </p:txBody>
      </p:sp>
      <p:sp>
        <p:nvSpPr>
          <p:cNvPr id="647"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In groups of 4 people;</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6b86"/>
                </a:solidFill>
                <a:latin typeface="Georgia"/>
              </a:rPr>
              <a:t>Starting with the first Assessment Package please complete the Post- Validation Form.</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6b86"/>
                </a:solidFill>
                <a:latin typeface="Georgia"/>
              </a:rPr>
              <a:t>Continue this process with the second and third Package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6b86"/>
                </a:solidFill>
                <a:latin typeface="Georgia"/>
              </a:rPr>
              <a:t>Complete a pre-validation form for the fourth Package.</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46b86"/>
                </a:solidFill>
                <a:latin typeface="Georgia"/>
              </a:rPr>
              <a:t>Please feel free to make recommendations for change as your contribution is vital to the improvement of these </a:t>
            </a:r>
            <a:r>
              <a:rPr b="0" i="1" lang="en-AU" sz="2400" spc="-1" strike="noStrike">
                <a:solidFill>
                  <a:srgbClr val="646b86"/>
                </a:solidFill>
                <a:latin typeface="Georgia"/>
              </a:rPr>
              <a:t>	</a:t>
            </a:r>
            <a:r>
              <a:rPr b="0" i="1" lang="en-AU" sz="2400" spc="-1" strike="noStrike">
                <a:solidFill>
                  <a:srgbClr val="646b86"/>
                </a:solidFill>
                <a:latin typeface="Georgia"/>
              </a:rPr>
              <a:t>	</a:t>
            </a:r>
            <a:r>
              <a:rPr b="0" i="1" lang="en-AU" sz="2400" spc="-1" strike="noStrike">
                <a:solidFill>
                  <a:srgbClr val="646b86"/>
                </a:solidFill>
                <a:latin typeface="Georgia"/>
              </a:rPr>
              <a:t>	</a:t>
            </a:r>
            <a:r>
              <a:rPr b="0" i="1" lang="en-AU" sz="2400" spc="-1" strike="noStrike">
                <a:solidFill>
                  <a:srgbClr val="646b86"/>
                </a:solidFill>
                <a:latin typeface="Georgia"/>
              </a:rPr>
              <a:t>packages.</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pic>
        <p:nvPicPr>
          <p:cNvPr id="649" name="Picture 5" descr="BLACK-crest.JPG"/>
          <p:cNvPicPr/>
          <p:nvPr/>
        </p:nvPicPr>
        <p:blipFill>
          <a:blip r:embed="rId2"/>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7" descr="j0283248.gif"/>
          <p:cNvPicPr/>
          <p:nvPr/>
        </p:nvPicPr>
        <p:blipFill>
          <a:blip r:embed="rId1"/>
          <a:stretch/>
        </p:blipFill>
        <p:spPr>
          <a:xfrm>
            <a:off x="285840" y="5214960"/>
            <a:ext cx="1995480" cy="1387440"/>
          </a:xfrm>
          <a:prstGeom prst="rect">
            <a:avLst/>
          </a:prstGeom>
          <a:ln w="0">
            <a:noFill/>
          </a:ln>
        </p:spPr>
      </p:pic>
      <p:sp>
        <p:nvSpPr>
          <p:cNvPr id="6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Student and Teacher Satisfaction Surveys</a:t>
            </a:r>
            <a:endParaRPr b="0" lang="en-US" sz="3300" spc="-1" strike="noStrike">
              <a:solidFill>
                <a:srgbClr val="7b9899"/>
              </a:solidFill>
              <a:latin typeface="Georgia"/>
            </a:endParaRPr>
          </a:p>
        </p:txBody>
      </p:sp>
      <p:sp>
        <p:nvSpPr>
          <p:cNvPr id="652"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53"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Teacher Surve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http://www.zoomerang.com/Survey/survey-intro.zgi?p=WEB229K579XG97</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54"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Student Surve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http://www.zoomerang.com/Survey/survey-intro.zgi?p=WEB229K527XD6A</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55" name="Picture 6" descr="BLACK-crest.JPG"/>
          <p:cNvPicPr/>
          <p:nvPr/>
        </p:nvPicPr>
        <p:blipFill>
          <a:blip r:embed="rId2"/>
          <a:stretch/>
        </p:blipFill>
        <p:spPr>
          <a:xfrm>
            <a:off x="7215120" y="6000840"/>
            <a:ext cx="1206720" cy="393480"/>
          </a:xfrm>
          <a:prstGeom prst="rect">
            <a:avLst/>
          </a:prstGeom>
          <a:ln w="0">
            <a:noFill/>
          </a:ln>
        </p:spPr>
      </p:pic>
      <p:pic>
        <p:nvPicPr>
          <p:cNvPr id="656" name="Picture 3" descr="E:\Documents and Settings\hkemp2\Local Settings\Temporary Internet Files\Content.IE5\ZAPLAFXO\MPj04093350000[1].jpg"/>
          <p:cNvPicPr/>
          <p:nvPr/>
        </p:nvPicPr>
        <p:blipFill>
          <a:blip r:embed="rId3"/>
          <a:stretch/>
        </p:blipFill>
        <p:spPr>
          <a:xfrm>
            <a:off x="1214280" y="3714840"/>
            <a:ext cx="2143440" cy="1430280"/>
          </a:xfrm>
          <a:prstGeom prst="rect">
            <a:avLst/>
          </a:prstGeom>
          <a:ln w="0">
            <a:noFill/>
          </a:ln>
        </p:spPr>
      </p:pic>
      <p:pic>
        <p:nvPicPr>
          <p:cNvPr id="657" name="Picture 6" descr="E:\Documents and Settings\hkemp2\Local Settings\Temporary Internet Files\Content.IE5\P27QN4ZI\MPj04394160000[1].jpg"/>
          <p:cNvPicPr/>
          <p:nvPr/>
        </p:nvPicPr>
        <p:blipFill>
          <a:blip r:embed="rId4"/>
          <a:stretch/>
        </p:blipFill>
        <p:spPr>
          <a:xfrm>
            <a:off x="6072120" y="3786120"/>
            <a:ext cx="1486080" cy="14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05:47:20Z</dcterms:created>
  <dc:creator>hkemp2</dc:creator>
  <dc:description/>
  <dc:language>en-US</dc:language>
  <cp:lastModifiedBy>Authorised DET User</cp:lastModifiedBy>
  <dcterms:modified xsi:type="dcterms:W3CDTF">2009-10-28T20:59:11Z</dcterms:modified>
  <cp:revision>22</cp:revision>
  <dc:subject/>
  <dc:title>Slide 1</dc:title>
</cp:coreProperties>
</file>